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8F94-1205-406F-91F2-E9947F74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4D13-2F59-4879-B182-4A305345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05D4-743B-4397-B024-B2195A3F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C7C4-290E-40A0-B32C-BA7238B2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7340-7E4A-4113-8441-8F74799A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D010-1E55-4695-87F3-9A7B6D99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8CDC-D5D0-48D2-9212-118E0157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1DE-F909-4ADF-BD99-9359AAA6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4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B6E0-37C7-4ECF-8C8B-EF5130A0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0954-6113-4A75-B319-4F02036D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0731-115F-4600-BA87-4511EFF6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1B70-EACB-4513-AE09-43A2D5D3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1" marL="579240" indent="-22284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2" marL="89136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3" marL="12481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4" marL="16045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5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6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AE60-E07A-451D-B66B-74F9FD20D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AC Futura Casual"/>
              </a:rPr>
              <a:t>Me llamo __________   Clase 6NH (602) La fecha es 27 de septiembre del 2012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cc"/>
                </a:solidFill>
                <a:latin typeface="CAC Futura Casual"/>
              </a:rPr>
              <a:t>Propósito # 5:</a:t>
            </a:r>
            <a:r>
              <a:rPr b="0" lang="es-ES_tradnl" sz="2800" spc="-1" strike="noStrike">
                <a:solidFill>
                  <a:srgbClr val="ff66cc"/>
                </a:solidFill>
                <a:latin typeface="CAC Futura Casu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CAC Futura Casual"/>
              </a:rPr>
              <a:t>¿Eres buen amigo?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cc"/>
                </a:solidFill>
                <a:latin typeface="CAC Futura Casual"/>
              </a:rPr>
              <a:t>Actividad Inicial: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cc"/>
                </a:solidFill>
                <a:latin typeface="CAC Futura Casu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CAC Futura Casual"/>
              </a:rPr>
              <a:t>Copia y responde en oraciones completas: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spcBef>
                <a:spcPts val="700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AC Futura Casual"/>
              </a:rPr>
              <a:t>¿Quién eres?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spcBef>
                <a:spcPts val="700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AC Futura Casual"/>
              </a:rPr>
              <a:t>¿De dónde eres?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spcBef>
                <a:spcPts val="700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AC Futura Casual"/>
              </a:rPr>
              <a:t>¿De qué nacionalidad eres? 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CAC Futura Casual"/>
              </a:rPr>
              <a:t>Verbos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¿Qué es un “pronombre”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¿Qué es un “verbo”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¿Qué significa “conjugar un verbo”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5" name=""/>
          <p:cNvSpPr/>
          <p:nvPr/>
        </p:nvSpPr>
        <p:spPr>
          <a:xfrm>
            <a:off x="533160" y="1600200"/>
            <a:ext cx="81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Un pronombre es una palabra que remplaza un 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o sustan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2400" y="289548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Un verbo es una palabra que expresa una a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8040" y="4038480"/>
            <a:ext cx="765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onjugar un verbo es, cambiar el verbo para po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us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66"/>
                </a:solidFill>
                <a:latin typeface="Arial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66"/>
                </a:solidFill>
                <a:latin typeface="Arial"/>
              </a:rPr>
              <a:t>No se dice:        Teresa “ser” colombi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66"/>
                </a:solidFill>
                <a:latin typeface="Arial"/>
              </a:rPr>
              <a:t>Se dice:</a:t>
            </a:r>
            <a:r>
              <a:rPr b="0" i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66"/>
                </a:solidFill>
                <a:latin typeface="Arial"/>
              </a:rPr>
              <a:t>     Teresa </a:t>
            </a:r>
            <a:r>
              <a:rPr b="0" i="1" lang="es-ES_tradnl" sz="2400" spc="-1" strike="noStrike" u="sng">
                <a:solidFill>
                  <a:srgbClr val="ffff66"/>
                </a:solidFill>
                <a:uFillTx/>
                <a:latin typeface="Arial"/>
              </a:rPr>
              <a:t>es</a:t>
            </a:r>
            <a:r>
              <a:rPr b="0" i="1" lang="es-ES_tradnl" sz="2400" spc="-1" strike="noStrike">
                <a:solidFill>
                  <a:srgbClr val="ffff66"/>
                </a:solidFill>
                <a:latin typeface="Arial"/>
              </a:rPr>
              <a:t> colombi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71800" y="5181480"/>
            <a:ext cx="2895480" cy="381240"/>
          </a:xfrm>
          <a:prstGeom prst="line">
            <a:avLst/>
          </a:prstGeom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971440" y="5181480"/>
            <a:ext cx="2895480" cy="304920"/>
          </a:xfrm>
          <a:prstGeom prst="line">
            <a:avLst/>
          </a:prstGeom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CAC Futura Casual"/>
              </a:rPr>
              <a:t>El verbo “Ser”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Unos de los verbos mas importantes en español es el verbo “Ser” </a:t>
            </a:r>
            <a:r>
              <a:rPr b="0" i="1" lang="es-ES_tradnl" sz="3200" spc="-1" strike="noStrike">
                <a:solidFill>
                  <a:srgbClr val="ffffff"/>
                </a:solidFill>
                <a:latin typeface="CAC Futura Casual"/>
              </a:rPr>
              <a:t>(to be)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Ser” es un verbo especial porque no es como los otros verbos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Ser” es un verbo “irregular”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CAC Futura Casual"/>
              </a:rPr>
              <a:t>Conjugacion del verbo “Ser”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Para conjugar un verbo, primero necesitamos los pronombres en orden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¿Cómo conjugamos el verbo “ser”? 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AC Futura Casual"/>
              </a:rPr>
              <a:t>Ser </a:t>
            </a:r>
            <a:r>
              <a:rPr b="0" i="1" lang="en-US" sz="2400" spc="-1" strike="noStrike">
                <a:solidFill>
                  <a:srgbClr val="ffffff"/>
                </a:solidFill>
                <a:latin typeface="CAC Futura Casual"/>
              </a:rPr>
              <a:t>(to be)</a:t>
            </a:r>
            <a:endParaRPr b="0" lang="en-US" sz="2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Yo-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Tú-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Él ella Ud-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Nosotros-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Ellos Ellas Uds.-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4" name=""/>
          <p:cNvSpPr/>
          <p:nvPr/>
        </p:nvSpPr>
        <p:spPr>
          <a:xfrm>
            <a:off x="1373040" y="307800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S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73480" y="31240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I 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21120" y="361152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7800" y="36576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you 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7840" y="414504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89160" y="4191120"/>
            <a:ext cx="41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S/he is, you {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polite/singular}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39720" y="467820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So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12040" y="47242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we 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67960" y="521172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11800" y="527364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They 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{guys/mixed} {girls}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You 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{polite &amp; familiar/plural}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0920" y="6095880"/>
            <a:ext cx="759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***Debes MEMORIZAR el verbo SER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AC Futura Casual"/>
              </a:rPr>
              <a:t>Practica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Completa con la forma correcta de SER: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591120" indent="-591120"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Nosotros _________ estudiantes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591120" indent="-591120"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Yo _______ inteligente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591120" indent="-591120"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Ustedes ________ jóvenes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591120" indent="-591120"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Luis ______ bajo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591120" indent="-591120"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Rosa y María _______ amigas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591120" indent="-591120"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Tú ________ muy buen alumno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WORKBOOK: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Completa p. R2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8580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cc"/>
                </a:solidFill>
                <a:latin typeface="CAC Futura Casual"/>
              </a:rPr>
              <a:t>Tarea #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00:19:06Z</dcterms:created>
  <dc:creator>Helen Zumaeta</dc:creator>
  <dc:description/>
  <dc:language>en-US</dc:language>
  <cp:lastModifiedBy>Helen Zumaeta</cp:lastModifiedBy>
  <dcterms:modified xsi:type="dcterms:W3CDTF">2012-09-25T20:00:05Z</dcterms:modified>
  <cp:revision>14</cp:revision>
  <dc:subject/>
  <dc:title>Me llamo __________   Clase 9N La fecha es 18 de enero del 2012</dc:title>
</cp:coreProperties>
</file>